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5718-0DDD-44D5-8628-E7FE60BB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11EE-656A-42C6-B53C-58D90C2C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F633-48E6-4118-9AF9-75399685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418C-F3D0-4364-91AF-CB518FE0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AB6E-CAF6-4599-842D-FBE46A90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42D-6CAF-459C-A8E0-A6FFC72E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5F41-9B0B-4F94-B51A-ECB482E6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749-F510-45BE-A9C6-40159E4E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7E69-6FDE-4B0C-9265-FC87EBA3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B599-6CBD-4210-92DA-3F4B836B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B81-8F0E-4F08-96AA-C4EAB8C2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9C9-AF0A-4A59-A149-88CD2C1A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A003-8A38-46E6-859E-2A687AE25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dan Trav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334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1995480"/>
            <a:ext cx="3352680" cy="2763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41148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by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2724120" cy="373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62120" y="2514600"/>
            <a:ext cx="38829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Choice #2- color 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978000" cy="2820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0" y="3505320"/>
            <a:ext cx="407196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Credit Fun Pho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224240" cy="299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00600" y="3657600"/>
            <a:ext cx="39783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64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ing with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3865320" cy="2736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952880" y="3733920"/>
            <a:ext cx="39196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28735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e Choice #1- Painting with Ligh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6944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 Port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47624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ulation- Sports Pho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4267080" cy="3009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24280" y="1371600"/>
            <a:ext cx="413568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Water D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4400640" cy="2671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724280" y="3962520"/>
            <a:ext cx="423864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Por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33720" y="1990800"/>
            <a:ext cx="44956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23:21:33Z</dcterms:created>
  <dc:creator>Ashley</dc:creator>
  <dc:description/>
  <dc:language>en-US</dc:language>
  <cp:lastModifiedBy>C</cp:lastModifiedBy>
  <dcterms:modified xsi:type="dcterms:W3CDTF">2009-05-22T21:13:17Z</dcterms:modified>
  <cp:revision>9</cp:revision>
  <dc:subject/>
  <dc:title>Slide 1</dc:title>
</cp:coreProperties>
</file>